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5F3B-DF29-4E12-9ED8-FC8D6C073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8BB8-3932-48AE-B36A-8CAD72474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7A5F-FA24-46E2-981C-BCB732202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F188-2E07-40E5-9C1A-405972F97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CF21-C47D-444A-B19E-4C646680F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D2FB-929E-4328-BB21-77E974F7A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9653-93A9-4F12-BA2E-C04B99426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1F36-110A-44EC-AED4-CD5EC2071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6D51-9A5B-44CD-B3F5-6959425EA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267A-A5CE-4C9C-86DE-F68EE629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E843-9974-4879-BF82-B68CB541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CBE3-9A63-49F3-B7F2-BAA1F80B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8c3d9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95B9B-8AA0-4957-AB1E-384D9B58A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reeplaymusic.com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hyperlink" Target="http://web.mit.edu/invent/iow/gabor.html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8c3d9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371600" y="762120"/>
            <a:ext cx="3962520" cy="37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ff00"/>
                  </a:solidFill>
                  <a:prstDash val="lgDash"/>
                  <a:miter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750075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entury Gothic"/>
              </a:rPr>
              <a:t>Hologram</a:t>
            </a:r>
            <a:endParaRPr b="1" i="1" lang="en-US" sz="1800" spc="1" strike="noStrike">
              <a:ln w="12600">
                <a:solidFill>
                  <a:srgbClr val="00ff00"/>
                </a:solidFill>
                <a:prstDash val="lgDash"/>
                <a:miter/>
              </a:ln>
              <a:gradFill rotWithShape="0">
                <a:gsLst>
                  <a:gs pos="0">
                    <a:srgbClr val="ff00ff"/>
                  </a:gs>
                  <a:gs pos="100000">
                    <a:srgbClr val="750075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entury Gothic"/>
              <a:ea typeface="Century Gothic"/>
            </a:endParaRPr>
          </a:p>
        </p:txBody>
      </p:sp>
      <p:sp>
        <p:nvSpPr>
          <p:cNvPr id="42" name=""/>
          <p:cNvSpPr/>
          <p:nvPr/>
        </p:nvSpPr>
        <p:spPr>
          <a:xfrm>
            <a:off x="5410080" y="3886200"/>
            <a:ext cx="33530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all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-27-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uter#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5943600"/>
            <a:ext cx="5943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ic: Free Play Music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Cat Briar Road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0-4-2010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  <a:hlinkClick r:id="rId1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343400" y="4343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400800" y="1828800"/>
            <a:ext cx="1843200" cy="1282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943600" y="137160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lip 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8c3d9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vention: Hol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nnis was born in Budapest, Germany on June 5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19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nnis had worked with Albert Einstein and Max Plan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nnis Gabor had gotten a doctoral degree for enginee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accepted a position with Siemens and Halske 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nnis Gabor became an author as he grew older. He wrote books about the future such as: “Inventing The Future”, “Innovations”, and “The Mature Societ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695240" cy="11919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5800" y="2286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lip 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8c3d9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ventor: Dennis Gab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hologram is formed when the interference patterns of two waves of light are recorded on fil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day holograms are used for many things such as: taking measurement in particle physics, security in credit cards, currency notes, and bar code read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lograms used to be called a wave front reconstr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gression of the hologram became very slow until a new light source was found. (the las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hologram is also used to capture three-dimensional objects on fil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8c3d9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Epperson"/>
          <p:cNvPicPr/>
          <p:nvPr/>
        </p:nvPicPr>
        <p:blipFill>
          <a:blip r:embed="rId1"/>
          <a:srcRect l="57071" t="0" r="0" b="0"/>
          <a:stretch/>
        </p:blipFill>
        <p:spPr>
          <a:xfrm>
            <a:off x="5715000" y="457200"/>
            <a:ext cx="3043080" cy="2583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Epperson"/>
          <p:cNvPicPr/>
          <p:nvPr/>
        </p:nvPicPr>
        <p:blipFill>
          <a:blip r:embed="rId2"/>
          <a:srcRect l="-3213" t="26558" r="41942" b="0"/>
          <a:stretch/>
        </p:blipFill>
        <p:spPr>
          <a:xfrm>
            <a:off x="380880" y="2057400"/>
            <a:ext cx="4343400" cy="1897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8600" y="5486400"/>
            <a:ext cx="5486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melsons MIT program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Hologra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September 29, 2010 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  <a:hlinkClick r:id="rId3"/>
              </a:rPr>
              <a:t>http://web.mit.edu/invent/iow/gabor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Gabor"/>
          <p:cNvPicPr/>
          <p:nvPr/>
        </p:nvPicPr>
        <p:blipFill>
          <a:blip r:embed="rId4"/>
          <a:stretch/>
        </p:blipFill>
        <p:spPr>
          <a:xfrm>
            <a:off x="6400800" y="3733920"/>
            <a:ext cx="198108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17:34:14Z</dcterms:created>
  <dc:creator>install</dc:creator>
  <dc:description/>
  <dc:language>en-US</dc:language>
  <cp:lastModifiedBy>install</cp:lastModifiedBy>
  <dcterms:modified xsi:type="dcterms:W3CDTF">2010-10-13T17:50:50Z</dcterms:modified>
  <cp:revision>16</cp:revision>
  <dc:subject/>
  <dc:title>Slide 1</dc:title>
</cp:coreProperties>
</file>